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EA3-B947-488A-A2B5-D94CAB89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862-803D-49A2-AA8F-7A33E9F8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2F9-9356-4C82-ABCB-7EA702CF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A07-2CFD-44D8-B958-4785F305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7E73-670E-45B0-ACA1-17634B57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562F-78B2-4BB2-9BB5-E7F48EFD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876-0105-4E61-8FCE-17E306FA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3AB5-1B58-4E81-84C2-745209DF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5BB5-AAA4-4F55-A081-BFF00B54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CFC9-5DD0-4DEA-8E67-EFEDE22E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ED5A-A077-4710-AEB8-56480D29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647-69DC-414E-A95F-F90EF8CD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640D-3DCE-4006-97A6-EDA7F74F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9F20-BDCA-4F98-AFBC-A0584A66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31C4-B726-4CAB-ACDE-8CC2EC4C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403C-AF31-4344-8C13-2F627745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9E47-A2F5-41AE-BCA1-50D82034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032-DC9C-4E3A-B9B7-0424A299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753-CA96-4575-ADC5-9CA34D9C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C22-0B75-447E-B851-39CBFE3C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837-0EEC-4A6D-B2EE-501D894E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573-E007-4B1E-A5AE-B58CA072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45E-A97B-416B-ABC0-F79B2FDC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23B-3D33-4E20-A2F7-CDD023EE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45F9-C158-42F7-8B67-757174B902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4290-5F89-4BD8-90D4-CFE8CF5E7E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テキスト 2"/>
          <p:cNvSpPr/>
          <p:nvPr/>
        </p:nvSpPr>
        <p:spPr>
          <a:xfrm>
            <a:off x="468360" y="3686040"/>
            <a:ext cx="2844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游ゴシック"/>
              </a:rPr>
              <a:t>ＭＢＣアプリで情報を見る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3"/>
          <p:cNvSpPr/>
          <p:nvPr/>
        </p:nvSpPr>
        <p:spPr>
          <a:xfrm>
            <a:off x="971640" y="4032360"/>
            <a:ext cx="1873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游ゴシック"/>
              </a:rPr>
              <a:t>①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游ゴシック"/>
              </a:rPr>
              <a:t>　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游ゴシック"/>
              </a:rPr>
              <a:t>ＭＢＣアプリ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游ゴシック"/>
              </a:rPr>
              <a:t>をダウン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游ゴシック"/>
              </a:rPr>
              <a:t>　　ロード（無料）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5"/>
          <p:cNvSpPr/>
          <p:nvPr/>
        </p:nvSpPr>
        <p:spPr>
          <a:xfrm>
            <a:off x="2681280" y="4005360"/>
            <a:ext cx="2035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游ゴシック"/>
              </a:rPr>
              <a:t>②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游ゴシック"/>
              </a:rPr>
              <a:t>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游ゴシック"/>
              </a:rPr>
              <a:t>MB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游ゴシック"/>
              </a:rPr>
              <a:t>アプリのトッ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游ゴシック"/>
              </a:rPr>
              <a:t>　　ページの「暮らしの情報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游ゴシック"/>
              </a:rPr>
              <a:t>　をタップ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図形 6"/>
          <p:cNvSpPr/>
          <p:nvPr/>
        </p:nvSpPr>
        <p:spPr>
          <a:xfrm>
            <a:off x="4378320" y="5518080"/>
            <a:ext cx="285840" cy="29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図形 7"/>
          <p:cNvSpPr/>
          <p:nvPr/>
        </p:nvSpPr>
        <p:spPr>
          <a:xfrm>
            <a:off x="5977080" y="5516640"/>
            <a:ext cx="285480" cy="29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8"/>
          <p:cNvSpPr/>
          <p:nvPr/>
        </p:nvSpPr>
        <p:spPr>
          <a:xfrm>
            <a:off x="5904000" y="4002120"/>
            <a:ext cx="18367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游ゴシック"/>
              </a:rPr>
              <a:t>④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游ゴシック"/>
              </a:rPr>
              <a:t>「錦江町」を選択して　　知りたい情報をタップ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図形 9"/>
          <p:cNvSpPr/>
          <p:nvPr/>
        </p:nvSpPr>
        <p:spPr>
          <a:xfrm>
            <a:off x="1620720" y="4773600"/>
            <a:ext cx="792360" cy="177480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774800"/>
              <a:gd name="textAreaBottom" fmla="*/ 1736280 h 1774800"/>
            </a:gdLst>
            <a:ahLst/>
            <a:rect l="textAreaLeft" t="textAreaTop" r="textAreaRight" b="textAreaBottom"/>
            <a:pathLst>
              <a:path w="21600" h="48369">
                <a:moveTo>
                  <a:pt x="3601" y="0"/>
                </a:moveTo>
                <a:arcTo wR="3601" hR="3601" stAng="16200000" swAng="-5400000"/>
                <a:lnTo>
                  <a:pt x="0" y="44768"/>
                </a:lnTo>
                <a:arcTo wR="3601" hR="3601" stAng="10800000" swAng="-5400000"/>
                <a:lnTo>
                  <a:pt x="17999" y="48369"/>
                </a:lnTo>
                <a:arcTo wR="3601" hR="3601" stAng="5400000" swAng="-5400000"/>
                <a:lnTo>
                  <a:pt x="21600" y="3601"/>
                </a:lnTo>
                <a:arcTo wR="3601" hR="3601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10"/>
          <p:cNvSpPr/>
          <p:nvPr/>
        </p:nvSpPr>
        <p:spPr>
          <a:xfrm>
            <a:off x="4492800" y="3997440"/>
            <a:ext cx="1665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游ゴシック"/>
              </a:rPr>
              <a:t>③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游ゴシック"/>
              </a:rPr>
              <a:t>「市町村情報」から　　「防災情報」をタップ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図形 11"/>
          <p:cNvSpPr/>
          <p:nvPr/>
        </p:nvSpPr>
        <p:spPr>
          <a:xfrm>
            <a:off x="4954680" y="4772160"/>
            <a:ext cx="828720" cy="1763640"/>
          </a:xfrm>
          <a:custGeom>
            <a:avLst/>
            <a:gdLst>
              <a:gd name="textAreaLeft" fmla="*/ 40320 w 828720"/>
              <a:gd name="textAreaRight" fmla="*/ 788400 w 828720"/>
              <a:gd name="textAreaTop" fmla="*/ 40320 h 1763640"/>
              <a:gd name="textAreaBottom" fmla="*/ 1723320 h 1763640"/>
            </a:gdLst>
            <a:ahLst/>
            <a:rect l="textAreaLeft" t="textAreaTop" r="textAreaRight" b="textAreaBottom"/>
            <a:pathLst>
              <a:path w="21600" h="45957">
                <a:moveTo>
                  <a:pt x="3598" y="0"/>
                </a:moveTo>
                <a:arcTo wR="3598" hR="3598" stAng="16200000" swAng="-5400000"/>
                <a:lnTo>
                  <a:pt x="0" y="42359"/>
                </a:lnTo>
                <a:arcTo wR="3598" hR="3598" stAng="10800000" swAng="-5400000"/>
                <a:lnTo>
                  <a:pt x="18002" y="45957"/>
                </a:lnTo>
                <a:arcTo wR="3598" hR="3598" stAng="5400000" swAng="-5400000"/>
                <a:lnTo>
                  <a:pt x="21600" y="3598"/>
                </a:lnTo>
                <a:arcTo wR="3598" hR="3598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12"/>
          <p:cNvSpPr/>
          <p:nvPr/>
        </p:nvSpPr>
        <p:spPr>
          <a:xfrm>
            <a:off x="7443720" y="4397400"/>
            <a:ext cx="172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游ゴシック"/>
              </a:rPr>
              <a:t>防災関連情報はプッシュ型でも自動配信されます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図形 13"/>
          <p:cNvSpPr/>
          <p:nvPr/>
        </p:nvSpPr>
        <p:spPr>
          <a:xfrm>
            <a:off x="7883640" y="4778280"/>
            <a:ext cx="828720" cy="1800360"/>
          </a:xfrm>
          <a:custGeom>
            <a:avLst/>
            <a:gdLst>
              <a:gd name="textAreaLeft" fmla="*/ 25200 w 828720"/>
              <a:gd name="textAreaRight" fmla="*/ 803520 w 828720"/>
              <a:gd name="textAreaTop" fmla="*/ 25200 h 1800360"/>
              <a:gd name="textAreaBottom" fmla="*/ 1775160 h 1800360"/>
            </a:gdLst>
            <a:ahLst/>
            <a:rect l="textAreaLeft" t="textAreaTop" r="textAreaRight" b="textAreaBottom"/>
            <a:pathLst>
              <a:path w="21600" h="46914">
                <a:moveTo>
                  <a:pt x="2248" y="0"/>
                </a:moveTo>
                <a:arcTo wR="2248" hR="2248" stAng="16200000" swAng="-5400000"/>
                <a:lnTo>
                  <a:pt x="0" y="44666"/>
                </a:lnTo>
                <a:arcTo wR="2248" hR="2248" stAng="10800000" swAng="-5400000"/>
                <a:lnTo>
                  <a:pt x="19352" y="46914"/>
                </a:lnTo>
                <a:arcTo wR="2248" hR="2248" stAng="5400000" swAng="-5400000"/>
                <a:lnTo>
                  <a:pt x="21600" y="2248"/>
                </a:lnTo>
                <a:arcTo wR="2248" hR="2248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図形 14"/>
          <p:cNvSpPr/>
          <p:nvPr/>
        </p:nvSpPr>
        <p:spPr>
          <a:xfrm>
            <a:off x="6454800" y="4761000"/>
            <a:ext cx="792000" cy="180000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800000"/>
              <a:gd name="textAreaBottom" fmla="*/ 1761480 h 1800000"/>
            </a:gdLst>
            <a:ahLst/>
            <a:rect l="textAreaLeft" t="textAreaTop" r="textAreaRight" b="textAreaBottom"/>
            <a:pathLst>
              <a:path w="21600" h="49078">
                <a:moveTo>
                  <a:pt x="3599" y="0"/>
                </a:moveTo>
                <a:arcTo wR="3599" hR="3599" stAng="16200000" swAng="-5400000"/>
                <a:lnTo>
                  <a:pt x="0" y="45479"/>
                </a:lnTo>
                <a:arcTo wR="3599" hR="3599" stAng="10800000" swAng="-5400000"/>
                <a:lnTo>
                  <a:pt x="18001" y="49078"/>
                </a:lnTo>
                <a:arcTo wR="3599" hR="3599" stAng="5400000" swAng="-5400000"/>
                <a:lnTo>
                  <a:pt x="21600" y="3599"/>
                </a:lnTo>
                <a:arcTo wR="3599" hR="359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15"/>
          <p:cNvSpPr/>
          <p:nvPr/>
        </p:nvSpPr>
        <p:spPr>
          <a:xfrm>
            <a:off x="539640" y="162000"/>
            <a:ext cx="446400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游ゴシック"/>
              </a:rPr>
              <a:t>ＭＢＣ（チャンネル１）のデータ放送で情報を見る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図形 16"/>
          <p:cNvGrpSpPr/>
          <p:nvPr/>
        </p:nvGrpSpPr>
        <p:grpSpPr>
          <a:xfrm>
            <a:off x="719280" y="596880"/>
            <a:ext cx="7200720" cy="2793960"/>
            <a:chOff x="719280" y="596880"/>
            <a:chExt cx="7200720" cy="2793960"/>
          </a:xfrm>
        </p:grpSpPr>
        <p:pic>
          <p:nvPicPr>
            <p:cNvPr id="96" name="オブジェクト 17" descr=""/>
            <p:cNvPicPr/>
            <p:nvPr/>
          </p:nvPicPr>
          <p:blipFill>
            <a:blip r:embed="rId1"/>
            <a:stretch/>
          </p:blipFill>
          <p:spPr>
            <a:xfrm>
              <a:off x="719280" y="596880"/>
              <a:ext cx="7200720" cy="27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図形 18"/>
            <p:cNvSpPr/>
            <p:nvPr/>
          </p:nvSpPr>
          <p:spPr>
            <a:xfrm rot="8281800">
              <a:off x="4852800" y="1340640"/>
              <a:ext cx="563040" cy="134280"/>
            </a:xfrm>
            <a:prstGeom prst="leftArrow">
              <a:avLst>
                <a:gd name="adj1" fmla="val 49991"/>
                <a:gd name="adj2" fmla="val 10465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図形 19"/>
            <p:cNvSpPr/>
            <p:nvPr/>
          </p:nvSpPr>
          <p:spPr>
            <a:xfrm rot="8281800">
              <a:off x="4889880" y="2424960"/>
              <a:ext cx="563400" cy="133920"/>
            </a:xfrm>
            <a:prstGeom prst="leftArrow">
              <a:avLst>
                <a:gd name="adj1" fmla="val 49991"/>
                <a:gd name="adj2" fmla="val 10499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図形 20"/>
            <p:cNvSpPr/>
            <p:nvPr/>
          </p:nvSpPr>
          <p:spPr>
            <a:xfrm rot="10800000">
              <a:off x="4937040" y="2830680"/>
              <a:ext cx="375480" cy="135720"/>
            </a:xfrm>
            <a:prstGeom prst="leftArrow">
              <a:avLst>
                <a:gd name="adj1" fmla="val 50009"/>
                <a:gd name="adj2" fmla="val 6901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テキスト 21"/>
          <p:cNvSpPr/>
          <p:nvPr/>
        </p:nvSpPr>
        <p:spPr>
          <a:xfrm>
            <a:off x="5529240" y="208080"/>
            <a:ext cx="361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游ゴシック"/>
              </a:rPr>
              <a:t>テレビのリモコンで地上デジタル放送の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游ゴシック"/>
              </a:rPr>
              <a:t>ＭＢＣ（ﾁｬﾝﾈﾙ１）を選局し、「ｄ ボタン」を押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22"/>
          <p:cNvSpPr/>
          <p:nvPr/>
        </p:nvSpPr>
        <p:spPr>
          <a:xfrm>
            <a:off x="5292720" y="636480"/>
            <a:ext cx="5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游ゴシック"/>
              </a:rPr>
              <a:t>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23"/>
          <p:cNvSpPr/>
          <p:nvPr/>
        </p:nvSpPr>
        <p:spPr>
          <a:xfrm>
            <a:off x="5292720" y="21600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游ゴシック"/>
              </a:rPr>
              <a:t>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24"/>
          <p:cNvSpPr/>
          <p:nvPr/>
        </p:nvSpPr>
        <p:spPr>
          <a:xfrm>
            <a:off x="5530680" y="650880"/>
            <a:ext cx="29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游ゴシック"/>
              </a:rPr>
              <a:t>画面右側のメニューで見たい情報を選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線 25"/>
          <p:cNvSpPr/>
          <p:nvPr/>
        </p:nvSpPr>
        <p:spPr>
          <a:xfrm>
            <a:off x="0" y="34783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図 26" descr=""/>
          <p:cNvPicPr/>
          <p:nvPr/>
        </p:nvPicPr>
        <p:blipFill>
          <a:blip r:embed="rId2"/>
          <a:stretch/>
        </p:blipFill>
        <p:spPr>
          <a:xfrm>
            <a:off x="1633680" y="4843440"/>
            <a:ext cx="763560" cy="1652760"/>
          </a:xfrm>
          <a:prstGeom prst="rect">
            <a:avLst/>
          </a:prstGeom>
          <a:ln w="0">
            <a:noFill/>
          </a:ln>
        </p:spPr>
      </p:pic>
      <p:sp>
        <p:nvSpPr>
          <p:cNvPr id="106" name="四角形 27"/>
          <p:cNvSpPr/>
          <p:nvPr/>
        </p:nvSpPr>
        <p:spPr>
          <a:xfrm flipH="1">
            <a:off x="2162160" y="5722920"/>
            <a:ext cx="21600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図 28" descr=""/>
          <p:cNvPicPr/>
          <p:nvPr/>
        </p:nvPicPr>
        <p:blipFill>
          <a:blip r:embed="rId3"/>
          <a:stretch/>
        </p:blipFill>
        <p:spPr>
          <a:xfrm>
            <a:off x="3354480" y="4835520"/>
            <a:ext cx="76500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図形 29"/>
          <p:cNvSpPr/>
          <p:nvPr/>
        </p:nvSpPr>
        <p:spPr>
          <a:xfrm>
            <a:off x="3336840" y="4773600"/>
            <a:ext cx="798480" cy="1728720"/>
          </a:xfrm>
          <a:custGeom>
            <a:avLst/>
            <a:gdLst>
              <a:gd name="textAreaLeft" fmla="*/ 38880 w 798480"/>
              <a:gd name="textAreaRight" fmla="*/ 759600 w 798480"/>
              <a:gd name="textAreaTop" fmla="*/ 38880 h 1728720"/>
              <a:gd name="textAreaBottom" fmla="*/ 1689840 h 1728720"/>
            </a:gdLst>
            <a:ahLst/>
            <a:rect l="textAreaLeft" t="textAreaTop" r="textAreaRight" b="textAreaBottom"/>
            <a:pathLst>
              <a:path w="21600" h="46753">
                <a:moveTo>
                  <a:pt x="3600" y="0"/>
                </a:moveTo>
                <a:arcTo wR="3600" hR="3600" stAng="16200000" swAng="-5400000"/>
                <a:lnTo>
                  <a:pt x="0" y="43153"/>
                </a:lnTo>
                <a:arcTo wR="3600" hR="3600" stAng="10800000" swAng="-5400000"/>
                <a:lnTo>
                  <a:pt x="18000" y="467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四角形 30"/>
          <p:cNvSpPr/>
          <p:nvPr/>
        </p:nvSpPr>
        <p:spPr>
          <a:xfrm>
            <a:off x="3855960" y="6238800"/>
            <a:ext cx="252360" cy="2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図 31" descr=""/>
          <p:cNvPicPr/>
          <p:nvPr/>
        </p:nvPicPr>
        <p:blipFill>
          <a:blip r:embed="rId4"/>
          <a:stretch/>
        </p:blipFill>
        <p:spPr>
          <a:xfrm>
            <a:off x="4991040" y="4869000"/>
            <a:ext cx="765360" cy="1655640"/>
          </a:xfrm>
          <a:prstGeom prst="rect">
            <a:avLst/>
          </a:prstGeom>
          <a:ln w="0">
            <a:noFill/>
          </a:ln>
        </p:spPr>
      </p:pic>
      <p:sp>
        <p:nvSpPr>
          <p:cNvPr id="111" name="四角形 32"/>
          <p:cNvSpPr/>
          <p:nvPr/>
        </p:nvSpPr>
        <p:spPr>
          <a:xfrm>
            <a:off x="5437080" y="5261040"/>
            <a:ext cx="36036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四角形 33"/>
          <p:cNvSpPr/>
          <p:nvPr/>
        </p:nvSpPr>
        <p:spPr>
          <a:xfrm>
            <a:off x="5135400" y="5110200"/>
            <a:ext cx="32544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図 34" descr=""/>
          <p:cNvPicPr/>
          <p:nvPr/>
        </p:nvPicPr>
        <p:blipFill>
          <a:blip r:embed="rId5"/>
          <a:stretch/>
        </p:blipFill>
        <p:spPr>
          <a:xfrm>
            <a:off x="6478560" y="4883040"/>
            <a:ext cx="747720" cy="1621080"/>
          </a:xfrm>
          <a:prstGeom prst="rect">
            <a:avLst/>
          </a:prstGeom>
          <a:ln w="0">
            <a:noFill/>
          </a:ln>
        </p:spPr>
      </p:pic>
      <p:sp>
        <p:nvSpPr>
          <p:cNvPr id="114" name="四角形 35"/>
          <p:cNvSpPr/>
          <p:nvPr/>
        </p:nvSpPr>
        <p:spPr>
          <a:xfrm>
            <a:off x="6838920" y="5056200"/>
            <a:ext cx="43200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四角形 36"/>
          <p:cNvSpPr/>
          <p:nvPr/>
        </p:nvSpPr>
        <p:spPr>
          <a:xfrm>
            <a:off x="6456240" y="5275440"/>
            <a:ext cx="757440" cy="537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図 37" descr=""/>
          <p:cNvPicPr/>
          <p:nvPr/>
        </p:nvPicPr>
        <p:blipFill>
          <a:blip r:embed="rId6"/>
          <a:stretch/>
        </p:blipFill>
        <p:spPr>
          <a:xfrm>
            <a:off x="7931160" y="4921200"/>
            <a:ext cx="749160" cy="1620720"/>
          </a:xfrm>
          <a:prstGeom prst="rect">
            <a:avLst/>
          </a:prstGeom>
          <a:ln w="0">
            <a:noFill/>
          </a:ln>
        </p:spPr>
      </p:pic>
      <p:sp>
        <p:nvSpPr>
          <p:cNvPr id="117" name="図形 38"/>
          <p:cNvSpPr/>
          <p:nvPr/>
        </p:nvSpPr>
        <p:spPr>
          <a:xfrm>
            <a:off x="7896240" y="5397480"/>
            <a:ext cx="792000" cy="468360"/>
          </a:xfrm>
          <a:prstGeom prst="roundRect">
            <a:avLst>
              <a:gd name="adj" fmla="val 16662"/>
            </a:avLst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オブジェクト 39" descr=""/>
          <p:cNvPicPr/>
          <p:nvPr/>
        </p:nvPicPr>
        <p:blipFill>
          <a:blip r:embed="rId7"/>
          <a:stretch/>
        </p:blipFill>
        <p:spPr>
          <a:xfrm>
            <a:off x="84240" y="530064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119" name="テキスト 40"/>
          <p:cNvSpPr/>
          <p:nvPr/>
        </p:nvSpPr>
        <p:spPr>
          <a:xfrm>
            <a:off x="142920" y="4773600"/>
            <a:ext cx="1333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  <a:ea typeface="游ゴシック"/>
              </a:rPr>
              <a:t>ＭＢＣアプ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  <a:ea typeface="游ゴシック"/>
              </a:rPr>
              <a:t>ダウンロード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  <a:ea typeface="游ゴシック"/>
              </a:rPr>
              <a:t>ＱＲコ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図形 41"/>
          <p:cNvSpPr/>
          <p:nvPr/>
        </p:nvSpPr>
        <p:spPr>
          <a:xfrm>
            <a:off x="2738520" y="5516640"/>
            <a:ext cx="285840" cy="29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2T04:22:19Z</dcterms:created>
  <dc:creator>s_bousai</dc:creator>
  <dc:description/>
  <cp:keywords/>
  <dc:language>en-US</dc:language>
  <cp:lastModifiedBy>inter</cp:lastModifiedBy>
  <dcterms:modified xsi:type="dcterms:W3CDTF">2021-09-13T01:59:05Z</dcterms:modified>
  <cp:revision>80</cp:revision>
  <dc:subject/>
  <dc:title>スライド 1</dc:title>
</cp:coreProperties>
</file>